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203D-FF4B-4C15-8713-3141A94804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4B5-436C-4626-ABDE-7D35304BBD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598-2AE3-438D-9E01-35A445C8C6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B130-F1D3-4CB3-9328-59E0BE5F96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E988-ABA3-4417-9073-397121882F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C5A2-1B97-4C5E-BC86-634F9B5F92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D009-B255-4CFA-B082-1BCC4EC479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59A4-F9FE-4A4B-B533-062E27DE3E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13E-0E32-4A55-8519-943A2FF7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CB0-396E-4400-B5B6-0A7E1BAE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440-A2FC-41C1-8B82-52F3CC7D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EE0-AADF-463D-B6E8-F434308B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11D4-42CA-4CCA-987C-CD338C57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C7D6-B527-4ACC-B47B-2FFB25BA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4862-F6F0-4537-822F-1A81523F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33EA-0880-4777-8F01-4CAFC913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7166-7429-465B-8A70-92559038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1AA9-8EEF-477D-AFBE-592F590D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37DB-E5AD-4078-A73F-F371FB48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C54-AB41-4D10-945D-1F9009C4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D8B2-FD32-441D-AA63-9AD7CFB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9F72-2012-4546-8A1E-2E83127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4890-0626-4568-8490-F19BA37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EAC1-C7B3-45F3-8916-C0BC7BDF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C329-486F-4CA2-AE26-AC37F45B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6BD-2653-4064-9631-944B068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1FF-79E0-4122-8B6B-24140F30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CC2-5A85-459C-A3B3-143EB586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D16-80F7-4423-BA8A-F2D03A8C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9AD-0ECB-49D6-8AC6-AE401D47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7D0-D35A-4B9E-AD38-D119A2E6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543-5BAF-4158-9A29-4E5B4EC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C228-0D78-4CCA-9F4D-B3497B421A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E9D0-E4DA-45FB-949C-3770397721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deduca.wikispaces.com/" TargetMode="External"/><Relationship Id="rId2" Type="http://schemas.openxmlformats.org/officeDocument/2006/relationships/hyperlink" Target="http://educacionplasticayvisual.wikispaces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.juntadeandalucia.es/averroes/cppfelipe" TargetMode="External"/><Relationship Id="rId2" Type="http://schemas.openxmlformats.org/officeDocument/2006/relationships/hyperlink" Target="http://mutrayil.wikispaces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esumen.wikispaces.com/sextob0708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cionatural.wikispaces.com/Los+animale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engua_hawaiana" TargetMode="External"/><Relationship Id="rId2" Type="http://schemas.openxmlformats.org/officeDocument/2006/relationships/hyperlink" Target="http://es.wikipedia.org/wiki/Sitio_web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17120" y="2362320"/>
            <a:ext cx="41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Wik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plicación didác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de el punto de vista del doc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contenidos teóricos de la materia para consulta por parte de los alumno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actividades de 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en un proyecto común con otros do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a antología de textos de 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 listado de recursos on-line (para el alumnado o para otros doc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ahoma"/>
              </a:rPr>
              <a:t>Usos educ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91440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sde el punto de vista del alumn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izar trabajos de manera colaborativa sobre cualquier tipo text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entar el contenido de un trabajo de investigación (contenido 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abo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o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u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66cc"/>
                </a:solidFill>
                <a:latin typeface="Arial"/>
              </a:rPr>
              <a:t>MODELOS DIDÁCTICO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793440"/>
            <a:ext cx="80773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Blog diario de clase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da día un grupo resume lo que se ha hecho en clase. El profesor lo revisa y valora. Útil para alumnos que no han asistido a clase, repasar temas, mostrar a las familias lo que se hace. Incluy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ejores trabajos de la cl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l profesor que los alumnos resolver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uestas para comentar o debatir un artículo, una noticia, una foto, un víde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olver una adivinanza o problema de múltiples sol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día un alumno escribe un fragmento más de una novela o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Trabajos colaborativos con wi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iki del periódico esco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los lectores podrán dejar aportaci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eb del centro docente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 enlace a los wikis de profesores y a los wikis diario de clase (las familias pueden dejar comen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ERE MARQUES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ositorio de Recursos Edu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rededuca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tio web personal del profe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educacionplasticayvisual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trayil. Una recreación de Motril en la Eda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e espacio se dedica a documentar las investigaciones que el alumnado de 4º A y 4º B del </a:t>
            </a: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EIP Príncipe Felipe de Motri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aliza para intentar conocer cómo era la vida en Mutrayil, Motril, en la época islámica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mutrayil.wikispace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resumen.wikispaces.com/sextob0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es en torno a libros en donde todos los alumnos colab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equeños trabajos de investigación </a:t>
            </a: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http://socionatural.wikispaces.com/Los+anima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ema colaborativo en wiki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poemas.wikispaces.com/Deseamos+y+ofrec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Narraciones colaborativas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narradores.wikispaces.com/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05440" y="1523880"/>
            <a:ext cx="81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textoscolaborativos.wikispaces.com/Wikis+en+Lengua+y+Lit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14400" y="259092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rigido al profesorado de Lengua Castellana y Lit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cebido como una fuente de recursos para el trabajo sobre la ma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73240" y="29574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iki que refleja un trabajo colaborativo realizado por alumnos y alum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ruyeron una antología de poemas de la Generación del 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uvo un premio el año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143000" y="13716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antologiapoetica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wiki que está pensado para recoger producciones orales de los alumnos y alum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resultado de una secuencia didáctica los alumnos graban textos de 100 palabras y proponen actividades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alumnos desarrollan la competencia en comunicación lingüística y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001880" y="1371600"/>
            <a:ext cx="50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tienesunminuto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eb 2.0 : La nueva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ACTIVIDAD: Internet abandona su marcada unidireccionalidad y se orientan más a facilitar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áxima interacción entre los usu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Pueden </a:t>
            </a:r>
            <a:r>
              <a:rPr b="1" i="1" lang="es-ES" sz="2000" spc="-1" strike="noStrike">
                <a:solidFill>
                  <a:srgbClr val="3366cc"/>
                </a:solidFill>
                <a:latin typeface="Arial"/>
              </a:rPr>
              <a:t>expresarse y opinar, buscar y recibir información de interés, colaborar y crear conocimiento, compart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ILIDAD PARA INTERVENIR: La plataforma de trabajo es la propia página web (no es necesario tener instalado un software cliente en el orden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43000" y="1676520"/>
            <a:ext cx="731520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poemasantologia.wikispace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 un wiki que recoge una antología de poemas elaborada a partir de una selección de poemas proporcionada por el profe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alumnos los han organizado por temas y los han ilustrado con imág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mbién han añadido vínculos para buscar información sobre sus au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7324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ágina web de centro con espacios para los departamentos con actividades y materiales para los alum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iesdolmendesoto.org/wiki/index.php/Por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ágina de recursos de un profesor de Lengua y Literatura. Contiene también actividades para los alum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littera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14300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ncular, no deben olvidar citar siempre las f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etar y así ser respe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ibir con legibilidad y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ar, adaptar, reutilizar los contenidos disponibles en la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ender el conocimiento l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tener espíritu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HEMOS DE LOGRAR QUE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os alumnos aprendan a...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 web 2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9720" y="1447560"/>
            <a:ext cx="794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expresarse/crear y public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wik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publicar y buscar inform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podcas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YouTub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Flick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lideShar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acceder a información de interé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RS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XM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lin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GoogleRead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uscadores especializ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Redes soci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Ning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econd Lif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Twitt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calendarios, geolocalización, libros virtuales compartidos, noticias, ofimática on-line, plataformas de teleformación, pizarras digitales colaborativas on-line, portal personalizad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MPLICACIONES EDUCATIVAS DE LA WEB 2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928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fácilment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crear conocimiento,   buscar información ,   compartir e interactuar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uede orientarse al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rabajo individual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también al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rabajo colabo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menta la motivación del alumnad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 utilizar medios que les atraen y les resultan at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 ver sus aportaciones publicadas y visibles a nivel mu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 servir como mecanismo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unicación con las familia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genda, diario, publicación de trabajo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aborar materi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solo o en grupo), compartirlo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someternos a comentari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los lec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frec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acios on-line para la public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conte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actividades de aprendizaje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q, cazas de tesoros, adm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formas de  evaluación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aluación compar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jora competencias digit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buscar, procesar, comunic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Un wiki (o una wiki) (del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awaiano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wiki wiki, «rápido») es un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sitio web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colaborativo que puede ser editado  </a:t>
            </a:r>
            <a:r>
              <a:rPr b="1" i="1" lang="es-ES" sz="3200" spc="-1" strike="noStrike" u="sng">
                <a:solidFill>
                  <a:srgbClr val="003366"/>
                </a:solidFill>
                <a:uFillTx/>
                <a:latin typeface="Tahoma"/>
              </a:rPr>
              <a:t>fácilmente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por vari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Diferencias entre un blog y un wik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l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do por e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ácter más 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876920" y="1752480"/>
            <a:ext cx="3429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do por pág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ácter más dinámico,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ció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in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Ventajas educativ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9720" y="100008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tan fácil de usar que hace que el alumno se centre en el contenido y no en la tecn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bre nuevos espacios de comunicación entre profesores, alumnos, famili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a las capacidades sociales y de colaboración hu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menta el aprendizaje constructi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buen método para la realización de trabajos de creación, indagación y desarrollo de la capacidad de comuni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Ventajas educativ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00080" y="198108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a forma de romper los muros del aula. Lo que se hace en clase se continúa trabajando desde casa o desde otros espa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blicar, saberse leíd@, comentad@ y observad@ resulta estimu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068480" y="1428840"/>
            <a:ext cx="77691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1:36:52Z</dcterms:created>
  <dc:creator>cpr</dc:creator>
  <dc:description/>
  <dc:language>en-US</dc:language>
  <cp:lastModifiedBy>cpr</cp:lastModifiedBy>
  <dcterms:modified xsi:type="dcterms:W3CDTF">2010-01-13T12:39:18Z</dcterms:modified>
  <cp:revision>20</cp:revision>
  <dc:subject/>
  <dc:title>Presentación de PowerPoint</dc:title>
</cp:coreProperties>
</file>